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375-A732-4A8D-9C57-03D3E1D4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3CA-573F-42DF-B09E-49396AF7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711-29E6-470D-8791-06B944FC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848-0DD8-40CA-BF36-030EAE84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EEC2-606B-4700-A90A-715B197D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BC1A-8600-43FB-9811-7F9F5EFE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8247-07C1-4596-85A2-57216901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7515-FD22-4695-86BD-E71D3D4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A9C5-01DA-453C-B384-2299815E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7A55-CEB2-47F7-BF39-41F5D96F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9B0D-FAD5-470D-9BC6-579CF18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42A-5F2D-49F4-88F2-443E028F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B4EE-44D9-40D0-955E-9C5E4E0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BD81-559B-4F6D-9FEB-CB58421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0CF7-A8B7-48B2-9F4D-67648677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7ED3-14B1-4997-8288-108F748F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1EEC-E42F-4EC4-BF06-2B014156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7332-F5BA-4510-8699-52AD3053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79D3-3ADA-40C7-9949-15CBDA55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82DF-DEEE-46DD-BC6E-B9C18461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3C45-57E0-487A-93C1-39631E4B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B7EC-3F5B-4970-A6BE-86FF9B9E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626-17E6-44EC-9E74-6DD45A0A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73C6-F37F-44FF-B8F4-F821F9A7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3F8E-3C22-4358-89F6-CCF7086B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1BAB-7602-44A7-8F9D-6C45E900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AC17-A511-4ABF-ABD2-29052E5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3049-6E72-438A-9749-95C7E6FB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EB7F-572D-4204-9F04-5C1FEA2E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D804-E71D-4B5D-9B00-7B5E1D02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7D55-2521-4B8D-A873-B1AA32D5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97F4-0906-48B9-B5BD-F8311F7F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4D43-A979-4EC5-8C6D-2C6006D2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A3E-B399-4946-BF4F-8D06FE8B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F9BC-0D8A-4459-ADB7-D2888450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30172-0A1F-4EDB-B0E0-29E3866E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5BE68-3DC4-4F1C-8FC0-4444D909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68DA-63D0-4AA5-8048-33A743F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D311-FAE4-4BED-869A-DDFC1469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05F7-41A4-464A-AB2E-E638D10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C013-2E0C-4FD7-B695-43E16744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3B66-021D-4998-9E55-0C5E90B7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06248-A265-4650-83DE-B4E23A58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FDA40-AE8F-4890-92CE-EE288927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E35-AA31-4755-8D0B-8B84896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CF1D-5B70-47D3-9727-F7E568F8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03E6D-5DB0-4D76-A3CB-CED906B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E5540-C698-433F-A745-98D3A211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6BEBB-6E6D-4266-8E1C-0011D286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94DE2-042A-4446-801B-6EA24FC7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CE8B6-0F4A-4DF0-8184-0B37E60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CF2EA-5B8C-4EED-8D9E-2176FC31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F3A8-7BCB-4E0C-8081-30B10CF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6521-D29F-44A3-95B5-B0E7A41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ED73-E38E-4FE6-9773-F1646667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02E-4A67-4FD9-9671-D9494E91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C6C20-A0BC-4B30-82AA-9A0B11F8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C237C-0FF4-437F-A824-927893A4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648A-C43F-4C14-98FB-F26BCED0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F1BA-19AD-47C2-88DC-7F04461F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03E4E-F67A-4F9B-ACA1-27532E8A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5EAE-F079-43EC-9528-C513C364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8F27-5289-4935-A7CB-8CC17A55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D402A-2D9B-4893-8BB4-9424ED9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13FA9-CE2B-4BFB-BC14-96010C88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316FB-6C27-4935-AFF2-740BDE50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606-E4A9-4DFF-BE2C-D0F6908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22CF0-2545-4F8E-91CB-44A16919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891E8-205A-4AA4-B481-C580ACA7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C37E-0471-48E4-A066-CE059474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964-72A2-4FF4-A3E5-2592E22F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02E-F89A-46DB-87B0-1D8884D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0300-0D2A-430D-B3B6-83089A9CE2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E366-CEFD-4F0A-A65A-EA105405CF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995E-255C-481F-B512-891D33C264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55F-3769-4EC7-BA7A-7DC5BC0D2B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FE93-EAE2-4672-A53A-FA40290372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570B-7436-401F-B23D-344D6BF1F9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ddleschoolscienc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ddleschoolscience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Cooper Black"/>
              </a:rPr>
              <a:t>Challenge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Phys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80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Densit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81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tle 1"/>
          <p:cNvSpPr/>
          <p:nvPr/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60948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ll it float in water?  Determine if the following shapes will float in water by calculating the density for each item. D = M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-Point Star 10"/>
          <p:cNvSpPr/>
          <p:nvPr/>
        </p:nvSpPr>
        <p:spPr>
          <a:xfrm>
            <a:off x="533520" y="2209680"/>
            <a:ext cx="1447560" cy="1447920"/>
          </a:xfrm>
          <a:prstGeom prst="pie">
            <a:avLst/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Isosceles Triangle 11"/>
          <p:cNvSpPr/>
          <p:nvPr/>
        </p:nvSpPr>
        <p:spPr>
          <a:xfrm>
            <a:off x="2743200" y="2209680"/>
            <a:ext cx="1447920" cy="1447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lowchart: Magnetic Disk 12"/>
          <p:cNvSpPr/>
          <p:nvPr/>
        </p:nvSpPr>
        <p:spPr>
          <a:xfrm>
            <a:off x="4952880" y="2209680"/>
            <a:ext cx="1524240" cy="1447920"/>
          </a:xfrm>
          <a:prstGeom prst="flowChartMagneticDisk">
            <a:avLst/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ube 13"/>
          <p:cNvSpPr/>
          <p:nvPr/>
        </p:nvSpPr>
        <p:spPr>
          <a:xfrm>
            <a:off x="7238880" y="2133720"/>
            <a:ext cx="1219320" cy="1523880"/>
          </a:xfrm>
          <a:prstGeom prst="cube">
            <a:avLst>
              <a:gd name="adj" fmla="val 25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380880" y="4343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2590920" y="4343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724280" y="4343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7010280" y="43434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9"/>
          <p:cNvSpPr/>
          <p:nvPr/>
        </p:nvSpPr>
        <p:spPr>
          <a:xfrm>
            <a:off x="2514600" y="617220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www.middleschoolscience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tle 1"/>
          <p:cNvSpPr/>
          <p:nvPr/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60948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ll it float in water?  Determine if the following shapes will float in water by calculating the density for each item. D = M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-Point Star 10"/>
          <p:cNvSpPr/>
          <p:nvPr/>
        </p:nvSpPr>
        <p:spPr>
          <a:xfrm>
            <a:off x="533520" y="2209680"/>
            <a:ext cx="1447560" cy="1447920"/>
          </a:xfrm>
          <a:prstGeom prst="pie">
            <a:avLst/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Isosceles Triangle 11"/>
          <p:cNvSpPr/>
          <p:nvPr/>
        </p:nvSpPr>
        <p:spPr>
          <a:xfrm>
            <a:off x="2743200" y="2209680"/>
            <a:ext cx="1447920" cy="1447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lowchart: Magnetic Disk 12"/>
          <p:cNvSpPr/>
          <p:nvPr/>
        </p:nvSpPr>
        <p:spPr>
          <a:xfrm>
            <a:off x="4952880" y="2209680"/>
            <a:ext cx="1524240" cy="1447920"/>
          </a:xfrm>
          <a:prstGeom prst="flowChartMagneticDisk">
            <a:avLst/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ube 13"/>
          <p:cNvSpPr/>
          <p:nvPr/>
        </p:nvSpPr>
        <p:spPr>
          <a:xfrm>
            <a:off x="7238880" y="2133720"/>
            <a:ext cx="1219320" cy="1523880"/>
          </a:xfrm>
          <a:prstGeom prst="cube">
            <a:avLst>
              <a:gd name="adj" fmla="val 25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228600" y="4343400"/>
            <a:ext cx="198108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2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.7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2362320" y="4343400"/>
            <a:ext cx="205740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0.0 g/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6"/>
          <p:cNvSpPr/>
          <p:nvPr/>
        </p:nvSpPr>
        <p:spPr>
          <a:xfrm>
            <a:off x="4648320" y="4343400"/>
            <a:ext cx="213336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2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.2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6934320" y="4343400"/>
            <a:ext cx="205740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2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.0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2514600" y="640080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www.middleschoolscience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"/>
          <p:cNvSpPr/>
          <p:nvPr/>
        </p:nvSpPr>
        <p:spPr>
          <a:xfrm>
            <a:off x="914400" y="5943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the density is less than 1.0 g/cm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en it will float. 1 g/mL = 1 g/cm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Rectangle 14" descr=""/>
          <p:cNvPicPr/>
          <p:nvPr/>
        </p:nvPicPr>
        <p:blipFill>
          <a:blip r:embed="rId2"/>
          <a:stretch/>
        </p:blipFill>
        <p:spPr>
          <a:xfrm>
            <a:off x="-55440" y="1773360"/>
            <a:ext cx="2463840" cy="182376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15" descr=""/>
          <p:cNvPicPr/>
          <p:nvPr/>
        </p:nvPicPr>
        <p:blipFill>
          <a:blip r:embed="rId3"/>
          <a:stretch/>
        </p:blipFill>
        <p:spPr>
          <a:xfrm>
            <a:off x="6572160" y="1700280"/>
            <a:ext cx="2468520" cy="181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7-06T14:36:07Z</dcterms:modified>
  <cp:revision>49</cp:revision>
  <dc:subject/>
  <dc:title>Slide 1</dc:title>
</cp:coreProperties>
</file>